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30726"/>
        <c:axId val="59452843"/>
      </c:barChart>
      <c:catAx>
        <c:axId val="57130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52843"/>
        <c:crosses val="autoZero"/>
        <c:auto val="1"/>
        <c:lblAlgn val="ctr"/>
        <c:lblOffset val="100"/>
        <c:noMultiLvlLbl val="0"/>
      </c:catAx>
      <c:valAx>
        <c:axId val="59452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30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207-8AF9-4F39-9B02-A6A4C708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4C7-8D96-44AF-88DF-558089C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D5F-8B8B-430E-AAF1-53D594E1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C9D-A957-4637-AA71-647AF47D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208-8463-47C2-9F7A-5E30499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16A-D66C-498E-BF01-DDBB904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FCB-5051-4D7C-9A36-4E2180E5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EC7-AE03-4F19-A4A0-2F7B98D4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A0B-D5EA-4D05-833B-6A7EDD7B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DAE-0BFF-4349-BA8A-B71D0110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D5C-5B19-4F7A-8ABD-62F31E7F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BEB-AB64-4068-9582-F7D72193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8D7B6-E365-48AA-9B85-26D2949783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