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15788"/>
        <c:axId val="55014695"/>
      </c:barChart>
      <c:catAx>
        <c:axId val="34915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14695"/>
        <c:crosses val="autoZero"/>
        <c:auto val="1"/>
        <c:lblAlgn val="ctr"/>
        <c:lblOffset val="100"/>
        <c:noMultiLvlLbl val="0"/>
      </c:catAx>
      <c:valAx>
        <c:axId val="55014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5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143-A9C9-4C69-89FF-4783B15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FC9-1AE7-4F18-9891-7903B7A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C65-2C23-4229-81D4-0959C8EF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D1C-A954-44D7-BF68-8AEC8E5C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8B1-45E9-4964-8430-3089BE89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F62-8C40-4498-B8D0-13D0D40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94F-3B52-49E7-ABD2-4CF5B40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CE8-7901-491E-9B87-AA609EB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DBB-D08D-4D88-9D0D-B84BD85B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E6A-D5D6-4371-867D-E008805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6CC-7E0B-43A9-9B97-32E4B9A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B6A-F206-47D1-B4D8-2DFE2A9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96BAB-C2E0-458E-9BF2-8FCAD4D87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