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12888"/>
        <c:axId val="32329899"/>
      </c:barChart>
      <c:catAx>
        <c:axId val="29212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29899"/>
        <c:crosses val="autoZero"/>
        <c:auto val="1"/>
        <c:lblAlgn val="ctr"/>
        <c:lblOffset val="100"/>
        <c:noMultiLvlLbl val="0"/>
      </c:catAx>
      <c:valAx>
        <c:axId val="32329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12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DA8-6D4C-40C9-8B31-27A27518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12A-837D-46FE-8D7C-B4E7E20C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A74-D14B-40BF-BDDF-A3B7C3AF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D92-35BA-4EAB-875A-ED03BB87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725-ACE7-4495-9E32-E6F39C25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A6E-DA5D-4A95-A607-5E0E8DB8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B92-F169-4F2F-A736-DB0DB147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8DF-F3E2-4778-96B9-7F8FB752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B28-4692-4664-923A-F4D8C047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2D9-EF80-49C8-B4D2-FC1ACA86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49F-7D5C-4636-8F8B-FB66C82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B22-7E37-435B-8474-57B7D0FC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9F603-6375-4F0B-9291-2120208CD9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