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69073"/>
        <c:axId val="62374328"/>
      </c:barChart>
      <c:catAx>
        <c:axId val="36669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74328"/>
        <c:crosses val="autoZero"/>
        <c:auto val="1"/>
        <c:lblAlgn val="ctr"/>
        <c:lblOffset val="100"/>
        <c:noMultiLvlLbl val="0"/>
      </c:catAx>
      <c:valAx>
        <c:axId val="62374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69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369-C744-4887-B663-F1E10583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E3A-45F1-40F5-9A48-CBCCA155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FB8-98BC-4E46-9EAB-0E649B82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9C1-C6C9-4FD2-B963-0D31F70E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43F-3A49-478E-A937-77C980B8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B51-9093-4F83-9432-1AE919A1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CB6-C9C4-4D14-A322-00A2BF1F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ADE-F918-488E-B28B-FF215655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B03-9025-4597-967E-D042DCA0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0EE-E82A-4ADF-9419-98C52418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7C2-30B3-46FF-AF4D-B4A4E6F9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17D-5254-4F68-A479-9CBBCDC8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C8D73-5CC0-4324-9E8A-FDA4BD2152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