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18165"/>
        <c:axId val="457121"/>
      </c:barChart>
      <c:catAx>
        <c:axId val="72418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121"/>
        <c:crosses val="autoZero"/>
        <c:auto val="1"/>
        <c:lblAlgn val="ctr"/>
        <c:lblOffset val="100"/>
        <c:noMultiLvlLbl val="0"/>
      </c:catAx>
      <c:valAx>
        <c:axId val="457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18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CAF-6FA1-472D-8FCA-592AFC36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CA1-B9B2-45E0-8B0F-4CF56A7C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A59-3338-442C-B05E-22F8BDC4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259-5915-49D9-9207-52871445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030-B39E-493C-BC54-5DA1F04A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9A0-248D-4D11-AC04-F656F43D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1C6-01A3-46E2-B751-D0268C89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58D-0F9B-4F01-9EAF-1FCCE9E6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3F8-A8B7-4831-B3F8-F99AB685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B69-1F36-4B11-A55D-0EF9F91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47C-5A4D-4DA5-9043-AD27F97A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7DF-4507-458F-A6C5-22D7F77F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D8555-1C28-405E-BB3C-E947FDF14F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