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941319"/>
        <c:axId val="7954699"/>
      </c:barChart>
      <c:catAx>
        <c:axId val="129413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4699"/>
        <c:crosses val="autoZero"/>
        <c:auto val="1"/>
        <c:lblAlgn val="ctr"/>
        <c:lblOffset val="100"/>
        <c:noMultiLvlLbl val="0"/>
      </c:catAx>
      <c:valAx>
        <c:axId val="79546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413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F064-F656-41DD-85E0-7FB0C4D9E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A805-C9A3-4C43-8757-A66C7FAA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E1E2-A3F9-40BD-8579-71E735956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48AE-AC21-460D-817B-FD1B2679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C111-A87D-476E-832D-13088BFC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0C39-B6B0-49EB-877A-E7616856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1BFC-AE3C-4F7E-9414-8439D350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F8FC-2162-4D9E-A27B-3FEC265B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2B9B-EA4B-4650-9DC7-26C37701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7B98-1E06-4417-9A42-AE4C4022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CF4D-DB71-45F5-B4C8-C7556BA0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E4EF-C97A-41F3-9260-B16D5542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2CF26-BD07-47CE-B4D4-0E2C7CCA36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